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AF47-9587-4D5F-82C3-92336B26D0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up to date are w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ng doctors who volunteered to repeat the ABIM, when retested after being in practice for up to 15 years, their scores inversely correlate with year of med school grad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7593-B17A-407E-B178-EC3982501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9966"/>
              </a:solidFill>
              <a:uFillTx/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4227-286D-4833-9952-26FA3CF5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9966"/>
              </a:solidFill>
              <a:uFillTx/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3F27-17A0-4A1F-B126-A06764F25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9966"/>
              </a:solidFill>
              <a:uFillTx/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7E2B-E3A7-42BB-95DC-921BF6981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AC4BA-4714-4ED3-897C-B77DDE2EC5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9966"/>
              </a:solidFill>
              <a:uFillTx/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66BE5B-2143-4406-8CE5-5760205887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9966"/>
              </a:solidFill>
              <a:uFillTx/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90B695-AA54-4C0E-8CD5-F6E1287C4C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9966"/>
              </a:solidFill>
              <a:uFillTx/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F5025A-9976-4EE8-A815-2B6CD9F116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9966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167717-19D8-4ACC-9E16-5E38F37830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4BABE-45A4-4F28-93A4-7A4AD0BFEB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9966"/>
              </a:solidFill>
              <a:uFillTx/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4B5969-7A74-4277-BF5B-540F6E4A58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9966"/>
              </a:solidFill>
              <a:uFillTx/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E8BA-7514-4315-8D73-AB769895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9966"/>
              </a:solidFill>
              <a:uFillTx/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F9792-B523-467E-9BD1-7226F2AE7E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9966"/>
              </a:solidFill>
              <a:uFillTx/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B5312B-D0E6-41B5-B785-B681063FF0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9966"/>
              </a:solidFill>
              <a:uFillTx/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6905E-EB31-46A4-84EE-0C86362B3A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9966"/>
              </a:solidFill>
              <a:uFillTx/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28983-AD27-4736-9156-E5D97E3DA3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9966"/>
              </a:solidFill>
              <a:uFillTx/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921111-0435-4773-B4AA-BE4260F451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9966"/>
              </a:solidFill>
              <a:uFillTx/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26CD-BC89-4A82-8A32-FB78AF69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9966"/>
              </a:solidFill>
              <a:uFillTx/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118E-16F8-47A6-9E87-EF615D29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9966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FC10-18DE-42A8-90B9-3EE5A66F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43AD-50EA-410F-91D8-7D323885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9966"/>
              </a:solidFill>
              <a:uFillTx/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98AF-A6EB-43A7-8A43-AF1CA438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9966"/>
              </a:solidFill>
              <a:uFillTx/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1EAE-38B6-405C-9F43-87951F9D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9966"/>
              </a:solidFill>
              <a:uFillTx/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7431-660C-4BD4-AD6C-1DD23EA6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c0c0c0"/>
                </a:solidFill>
                <a:latin typeface="Times New Roman"/>
              </a:rPr>
              <a:t>&lt;date/time&gt;</a:t>
            </a:r>
            <a:r>
              <a:rPr b="0" lang="da-DK" sz="1200" spc="-1" strike="noStrike">
                <a:solidFill>
                  <a:srgbClr val="c0c0c0"/>
                </a:solidFill>
                <a:latin typeface="Times New Roman"/>
              </a:rPr>
              <a:t>EBMW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c0c0c0"/>
                </a:solidFill>
                <a:latin typeface="Times New Roman"/>
              </a:rPr>
              <a:t>&lt;footer&gt;</a:t>
            </a:r>
            <a:r>
              <a:rPr b="0" lang="da-DK" sz="1200" spc="-1" strike="noStrike">
                <a:solidFill>
                  <a:srgbClr val="c0c0c0"/>
                </a:solidFill>
                <a:latin typeface="Times New Roman"/>
              </a:rPr>
              <a:t>A.SOLT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0c0c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Times New Roman"/>
                <a:ea typeface="Times New Roman"/>
              </a:rPr>
              <a:t>T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8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9966"/>
                </a:solidFill>
                <a:uFillTx/>
                <a:latin typeface="Times New Roman"/>
              </a:rPr>
              <a:t>Click to edit the title text format</a:t>
            </a:r>
            <a:endParaRPr b="0" lang="en-US" sz="4400" spc="-1" strike="noStrike" u="sng">
              <a:solidFill>
                <a:srgbClr val="ff9966"/>
              </a:solidFill>
              <a:uFillTx/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BC4C-CB74-4813-B2CC-99A1EFE807E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oltaniebm.com/" TargetMode="External"/><Relationship Id="rId2" Type="http://schemas.openxmlformats.org/officeDocument/2006/relationships/hyperlink" Target="http://www.ebm.ir/" TargetMode="External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9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  <a:ea typeface="Arial"/>
              </a:rPr>
              <a:t>Information Mastery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6840" y="60480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32000" y="4581360"/>
            <a:ext cx="6400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kbar </a:t>
            </a: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</a:t>
            </a:r>
            <a:r>
              <a:rPr b="1" lang="en-GB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ltani. MD</a:t>
            </a: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, MS, Endocrinolog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ehran University of Medical Sciences (TU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docrine and Metabolism Research Center (EMR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vidence-Based Medicine Research Center (EBMR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hariati Hospita</a:t>
            </a: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1"/>
              </a:rPr>
              <a:t>www.soltaniebm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  <a:hlinkClick r:id="rId2"/>
              </a:rPr>
              <a:t>www.ebm.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ff00"/>
                </a:solidFill>
                <a:latin typeface="Times New Roman"/>
              </a:rPr>
              <a:t>Information Mastery</a:t>
            </a:r>
            <a:endParaRPr b="0" lang="en-US" sz="7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31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ll of us must develop effective and efficient ways of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dentifying,  evaluating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using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new information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80880" y="2286000"/>
            <a:ext cx="335304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Usefulness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038480" y="2895480"/>
            <a:ext cx="48006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________________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343400" y="2057400"/>
            <a:ext cx="2133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relevance 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552720" y="2209680"/>
            <a:ext cx="30492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53080" y="2209680"/>
            <a:ext cx="30492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010280" y="2133720"/>
            <a:ext cx="1676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validity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019920" y="3352680"/>
            <a:ext cx="9237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ork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87280" y="4789440"/>
            <a:ext cx="856944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oal of information mast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o determine the information  source with the highest usefulness sc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A Useful Equation!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80000" y="1844640"/>
            <a:ext cx="2952720" cy="1079640"/>
          </a:xfrm>
          <a:prstGeom prst="ellipse">
            <a:avLst/>
          </a:prstGeom>
          <a:noFill/>
          <a:ln w="73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levanc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lev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based on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requenc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at we are exposed to the clinical question in our practice an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yp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evidence presen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 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are looking for patient-oriented evi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enough to find patient-oriented evidence, but we are truly seeking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atient-oriented evidence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hat matte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POE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99960" y="60948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Information Mastery </a:t>
            </a:r>
            <a:br>
              <a:rPr sz="5400"/>
            </a:b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(Relevancy)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18478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tic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E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ient-oriented eviden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Matter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tality, morbidity, quality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Disease-oriented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hophysiology, pharmacology, et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371600"/>
            <a:ext cx="91440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xamples of Hypothetical DOE and POEM studie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4480" y="1905120"/>
            <a:ext cx="751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7280" y="2363760"/>
            <a:ext cx="2684520" cy="6426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Drug A lowers cholest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2287440"/>
            <a:ext cx="2895480" cy="6426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Drug A lowers cardiovascular mort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48520" y="2286000"/>
            <a:ext cx="2743200" cy="6426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Drug A decreases overall mort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7280" y="3354480"/>
            <a:ext cx="2629080" cy="6426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RT l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holest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10520" y="3162240"/>
            <a:ext cx="1855800" cy="119124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HRT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cardiovas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ort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54880" y="3284640"/>
            <a:ext cx="2094840" cy="91692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RT do n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ecreases over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ortality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4724280"/>
            <a:ext cx="2666880" cy="91692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luoride increase  osteoblastic activit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4952880"/>
            <a:ext cx="2819520" cy="36828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Fluoride increase B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80120" y="4938840"/>
            <a:ext cx="2811600" cy="6426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luoride increase Fx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9440" y="1700280"/>
            <a:ext cx="9231120" cy="459720"/>
            <a:chOff x="19440" y="1700280"/>
            <a:chExt cx="9231120" cy="459720"/>
          </a:xfrm>
        </p:grpSpPr>
        <p:sp>
          <p:nvSpPr>
            <p:cNvPr id="145" name=""/>
            <p:cNvSpPr/>
            <p:nvPr/>
          </p:nvSpPr>
          <p:spPr>
            <a:xfrm>
              <a:off x="19440" y="170028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DO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172360" y="170028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PO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55720" y="1928880"/>
              <a:ext cx="7391520" cy="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471840" y="6040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56000" y="5805360"/>
            <a:ext cx="42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thophysiologic reas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1752480"/>
            <a:ext cx="9144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40920" y="745920"/>
            <a:ext cx="6588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Information Mastery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85800" y="2743200"/>
          <a:ext cx="7883640" cy="2666880"/>
        </p:xfrm>
        <a:graphic>
          <a:graphicData uri="http://schemas.openxmlformats.org/drawingml/2006/table">
            <a:tbl>
              <a:tblPr/>
              <a:tblGrid>
                <a:gridCol w="2149560"/>
                <a:gridCol w="3430440"/>
                <a:gridCol w="230364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O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O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OMM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These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nger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UNCOMM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ad if you have 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orthl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3276720" y="3733920"/>
            <a:ext cx="2590560" cy="6094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16360" y="4648320"/>
            <a:ext cx="3240000" cy="7617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3733920"/>
            <a:ext cx="2057400" cy="6094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00800" y="4572000"/>
            <a:ext cx="2057400" cy="6094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1752480"/>
            <a:ext cx="9144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40920" y="745920"/>
            <a:ext cx="6588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Information Mastery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5800" y="2743200"/>
          <a:ext cx="7883640" cy="2722680"/>
        </p:xfrm>
        <a:graphic>
          <a:graphicData uri="http://schemas.openxmlformats.org/drawingml/2006/table">
            <a:tbl>
              <a:tblPr/>
              <a:tblGrid>
                <a:gridCol w="2149560"/>
                <a:gridCol w="3430440"/>
                <a:gridCol w="2303640"/>
              </a:tblGrid>
              <a:tr h="88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O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O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8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OMM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ead These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nger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UNCOMM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ad if you have 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orthl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987640" y="4581360"/>
            <a:ext cx="31687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00800" y="373392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00800" y="45720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1752480"/>
            <a:ext cx="9144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40920" y="745920"/>
            <a:ext cx="6588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Information Mastery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85800" y="2708280"/>
          <a:ext cx="7883640" cy="2757600"/>
        </p:xfrm>
        <a:graphic>
          <a:graphicData uri="http://schemas.openxmlformats.org/drawingml/2006/table">
            <a:tbl>
              <a:tblPr/>
              <a:tblGrid>
                <a:gridCol w="2149560"/>
                <a:gridCol w="3430440"/>
                <a:gridCol w="2303640"/>
              </a:tblGrid>
              <a:tr h="92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O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O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8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OMM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ead These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nger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UNCOMM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ad if you have 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Worthl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2987640" y="4572000"/>
            <a:ext cx="31687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400800" y="373392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752480"/>
            <a:ext cx="9144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40920" y="745920"/>
            <a:ext cx="6588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Information Mastery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85800" y="2743200"/>
          <a:ext cx="7883640" cy="2722680"/>
        </p:xfrm>
        <a:graphic>
          <a:graphicData uri="http://schemas.openxmlformats.org/drawingml/2006/table">
            <a:tbl>
              <a:tblPr/>
              <a:tblGrid>
                <a:gridCol w="2149560"/>
                <a:gridCol w="3430440"/>
                <a:gridCol w="2303640"/>
              </a:tblGrid>
              <a:tr h="88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O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O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8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OMM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ead These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nger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UNCOMM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ead if you have 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Worthl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6400800" y="373392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1752480"/>
            <a:ext cx="9144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40920" y="745920"/>
            <a:ext cx="65883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Information Mastery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85800" y="2743200"/>
          <a:ext cx="7883640" cy="2722680"/>
        </p:xfrm>
        <a:graphic>
          <a:graphicData uri="http://schemas.openxmlformats.org/drawingml/2006/table">
            <a:tbl>
              <a:tblPr/>
              <a:tblGrid>
                <a:gridCol w="2149560"/>
                <a:gridCol w="3430440"/>
                <a:gridCol w="2303640"/>
              </a:tblGrid>
              <a:tr h="88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O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O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8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OMM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ead These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anger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UNCOMM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ead if you have 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Worthl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4296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ypes of health care profes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539120" y="1676520"/>
            <a:ext cx="1042920" cy="1676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052720" y="1600200"/>
            <a:ext cx="3591000" cy="2533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838080" y="3886200"/>
            <a:ext cx="1752840" cy="2246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651760" y="5276880"/>
            <a:ext cx="17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nd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4114800"/>
            <a:ext cx="284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vidence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41440" y="3219480"/>
            <a:ext cx="187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gen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6865920" y="4556160"/>
            <a:ext cx="1357200" cy="1371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774400" y="5810400"/>
            <a:ext cx="32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vidence Igno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Information Mastery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28640" y="2261880"/>
            <a:ext cx="841536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x month survey of 90 journals, which identified 8047 articles and only 213 POEM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ver 97% of medical literature DO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bou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2.6%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of medical literature is POE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rrogates end points (DOEs)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000" y="1447560"/>
            <a:ext cx="8599320" cy="38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02320" indent="-2023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nical Endpoin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  characteristic or variable to measure how a patient feels, functions or surviv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02320" indent="-2023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urrogate Endpoin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  test, measure or indicator sufficiently documented to represent a true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clinically meaningful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outcom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is the basis for approv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99960" y="60948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Information Mastery </a:t>
            </a:r>
            <a:br>
              <a:rPr sz="5400"/>
            </a:b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(Relevancy)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18478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tic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E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ient-oriented eviden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Matter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tality, morbidity, quality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Disease-oriented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hophysiology, pharmacology, et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80880" y="2286000"/>
            <a:ext cx="335304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Usefulness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038480" y="2895480"/>
            <a:ext cx="48006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________________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43400" y="2057400"/>
            <a:ext cx="2133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relevance 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552720" y="2209680"/>
            <a:ext cx="30492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553080" y="2209680"/>
            <a:ext cx="30492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010280" y="2133720"/>
            <a:ext cx="1676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validity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019920" y="3352680"/>
            <a:ext cx="9237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ork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443640" y="1844640"/>
            <a:ext cx="2592360" cy="1079640"/>
          </a:xfrm>
          <a:prstGeom prst="ellipse">
            <a:avLst/>
          </a:prstGeom>
          <a:noFill/>
          <a:ln w="73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4858920" y="475920"/>
            <a:ext cx="3025800" cy="1368360"/>
          </a:xfrm>
          <a:prstGeom prst="line">
            <a:avLst/>
          </a:prstGeom>
          <a:ln w="604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69080" y="233280"/>
            <a:ext cx="318312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ritical apprai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Validity</a:t>
            </a:r>
            <a:endParaRPr b="0" lang="en-US" sz="5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16000" y="170028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s  the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ardes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part of  information maste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 what extent the knowledge gained as a result represents the “truth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ell-designed clinical trials that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minimize bia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re more likely to provide valid conclus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971640" y="152280"/>
          <a:ext cx="784836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52280"/>
                    <a:ext cx="784836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5" name=""/>
          <p:cNvGrpSpPr/>
          <p:nvPr/>
        </p:nvGrpSpPr>
        <p:grpSpPr>
          <a:xfrm>
            <a:off x="2170080" y="3352680"/>
            <a:ext cx="6440400" cy="3060720"/>
            <a:chOff x="2170080" y="3352680"/>
            <a:chExt cx="6440400" cy="3060720"/>
          </a:xfrm>
        </p:grpSpPr>
        <p:graphicFrame>
          <p:nvGraphicFramePr>
            <p:cNvPr id="196" name=""/>
            <p:cNvGraphicFramePr/>
            <p:nvPr/>
          </p:nvGraphicFramePr>
          <p:xfrm>
            <a:off x="2170080" y="4498920"/>
            <a:ext cx="6440400" cy="1914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70080" y="4498920"/>
                      <a:ext cx="6440400" cy="191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8" name=""/>
            <p:cNvSpPr/>
            <p:nvPr/>
          </p:nvSpPr>
          <p:spPr>
            <a:xfrm>
              <a:off x="6019920" y="4800600"/>
              <a:ext cx="251460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84480" y="5105520"/>
              <a:ext cx="640080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97080" y="5423040"/>
              <a:ext cx="640080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84480" y="5753160"/>
              <a:ext cx="640080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97080" y="6045120"/>
              <a:ext cx="640080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84480" y="6362640"/>
              <a:ext cx="68580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 rot="10800000">
              <a:off x="2437920" y="3352680"/>
              <a:ext cx="2210040" cy="533520"/>
            </a:xfrm>
            <a:prstGeom prst="wedgeRectCallout">
              <a:avLst>
                <a:gd name="adj1" fmla="val -111208"/>
                <a:gd name="adj2" fmla="val 188986"/>
              </a:avLst>
            </a:prstGeom>
            <a:solidFill>
              <a:srgbClr val="808080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Hypothesis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6019920" y="2884320"/>
            <a:ext cx="2286000" cy="1381680"/>
          </a:xfrm>
          <a:prstGeom prst="rect">
            <a:avLst/>
          </a:prstGeom>
          <a:solidFill>
            <a:srgbClr val="33330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新細明體"/>
              </a:rPr>
              <a:t>Sample size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新細明體"/>
              </a:rPr>
              <a:t>No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50760" y="119160"/>
          <a:ext cx="9067680" cy="44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0" y="119160"/>
                    <a:ext cx="906768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6324480" y="838080"/>
            <a:ext cx="2667240" cy="3657600"/>
          </a:xfrm>
          <a:prstGeom prst="rect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569960" y="4800600"/>
            <a:ext cx="6583320" cy="1733400"/>
            <a:chOff x="1569960" y="4800600"/>
            <a:chExt cx="6583320" cy="1733400"/>
          </a:xfrm>
        </p:grpSpPr>
        <p:graphicFrame>
          <p:nvGraphicFramePr>
            <p:cNvPr id="210" name=""/>
            <p:cNvGraphicFramePr/>
            <p:nvPr/>
          </p:nvGraphicFramePr>
          <p:xfrm>
            <a:off x="1569960" y="4800600"/>
            <a:ext cx="6583320" cy="1733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69960" y="4800600"/>
                      <a:ext cx="6583320" cy="173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2" name=""/>
            <p:cNvSpPr/>
            <p:nvPr/>
          </p:nvSpPr>
          <p:spPr>
            <a:xfrm>
              <a:off x="5867280" y="5664240"/>
              <a:ext cx="205740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2629080" y="1130400"/>
            <a:ext cx="3581280" cy="380880"/>
          </a:xfrm>
          <a:prstGeom prst="ellipse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222960" y="1778040"/>
            <a:ext cx="533520" cy="342720"/>
          </a:xfrm>
          <a:prstGeom prst="rightArrow">
            <a:avLst>
              <a:gd name="adj1" fmla="val 50000"/>
              <a:gd name="adj2" fmla="val 38918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751760" y="2743200"/>
            <a:ext cx="4038840" cy="2590920"/>
          </a:xfrm>
          <a:prstGeom prst="cloudCallout">
            <a:avLst>
              <a:gd name="adj1" fmla="val -56018"/>
              <a:gd name="adj2" fmla="val 52263"/>
            </a:avLst>
          </a:prstGeom>
          <a:solidFill>
            <a:srgbClr val="6600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新細明體"/>
              </a:rPr>
              <a:t>Failure to detect a diffe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新細明體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新細明體"/>
              </a:rPr>
              <a:t>Equival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50760" y="119160"/>
          <a:ext cx="9067680" cy="44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0" y="119160"/>
                    <a:ext cx="906768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6324480" y="838080"/>
            <a:ext cx="2667240" cy="3657600"/>
          </a:xfrm>
          <a:prstGeom prst="rect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1569960" y="4800600"/>
            <a:ext cx="6583320" cy="1733400"/>
            <a:chOff x="1569960" y="4800600"/>
            <a:chExt cx="6583320" cy="1733400"/>
          </a:xfrm>
        </p:grpSpPr>
        <p:graphicFrame>
          <p:nvGraphicFramePr>
            <p:cNvPr id="220" name=""/>
            <p:cNvGraphicFramePr/>
            <p:nvPr/>
          </p:nvGraphicFramePr>
          <p:xfrm>
            <a:off x="1569960" y="4800600"/>
            <a:ext cx="6583320" cy="1733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69960" y="4800600"/>
                      <a:ext cx="6583320" cy="1733400"/>
                    </a:xfrm>
                    <a:prstGeom prst="rect">
                      <a:avLst/>
                    </a:prstGeom>
                    <a:ln cap="sq" w="12600">
                      <a:solidFill>
                        <a:srgbClr val="80808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22" name=""/>
            <p:cNvSpPr/>
            <p:nvPr/>
          </p:nvSpPr>
          <p:spPr>
            <a:xfrm>
              <a:off x="5867280" y="5664240"/>
              <a:ext cx="2057400" cy="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2629080" y="1130400"/>
            <a:ext cx="3581280" cy="380880"/>
          </a:xfrm>
          <a:prstGeom prst="ellipse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22960" y="1778040"/>
            <a:ext cx="533520" cy="342720"/>
          </a:xfrm>
          <a:prstGeom prst="rightArrow">
            <a:avLst>
              <a:gd name="adj1" fmla="val 50000"/>
              <a:gd name="adj2" fmla="val 38918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1523160" y="4190400"/>
            <a:ext cx="4038840" cy="1600200"/>
          </a:xfrm>
          <a:prstGeom prst="wedgeRectCallout">
            <a:avLst>
              <a:gd name="adj1" fmla="val -90370"/>
              <a:gd name="adj2" fmla="val 183726"/>
            </a:avLst>
          </a:prstGeom>
          <a:solidFill>
            <a:srgbClr val="cc000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ssume non-inferiority if the lower limit of 95% CI is less than –5%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N=904 per grou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80880" y="2286000"/>
            <a:ext cx="335304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Usefulness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038480" y="2895480"/>
            <a:ext cx="48006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________________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343400" y="2057400"/>
            <a:ext cx="2133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relevance 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552720" y="2209680"/>
            <a:ext cx="30492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53080" y="2209680"/>
            <a:ext cx="30492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010280" y="2133720"/>
            <a:ext cx="1676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validity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019920" y="3352680"/>
            <a:ext cx="9237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ork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43640" y="1844640"/>
            <a:ext cx="2592360" cy="1079640"/>
          </a:xfrm>
          <a:prstGeom prst="ellipse">
            <a:avLst/>
          </a:prstGeom>
          <a:noFill/>
          <a:ln w="73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4858920" y="475920"/>
            <a:ext cx="3025800" cy="1368360"/>
          </a:xfrm>
          <a:prstGeom prst="line">
            <a:avLst/>
          </a:prstGeom>
          <a:ln w="604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92720" y="3213000"/>
            <a:ext cx="2592360" cy="1079640"/>
          </a:xfrm>
          <a:prstGeom prst="ellipse">
            <a:avLst/>
          </a:prstGeom>
          <a:noFill/>
          <a:ln w="73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692360" y="5052960"/>
            <a:ext cx="2722680" cy="825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Arial"/>
              </a:rPr>
              <a:t>SEAR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347640" y="3933720"/>
            <a:ext cx="2089080" cy="1079640"/>
          </a:xfrm>
          <a:prstGeom prst="line">
            <a:avLst/>
          </a:prstGeom>
          <a:ln w="604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69080" y="233280"/>
            <a:ext cx="318312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ritical apprai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179280" y="536400"/>
          <a:ext cx="8893440" cy="5413320"/>
        </p:xfrm>
        <a:graphic>
          <a:graphicData uri="http://schemas.openxmlformats.org/drawingml/2006/table">
            <a:tbl>
              <a:tblPr/>
              <a:tblGrid>
                <a:gridCol w="2952720"/>
                <a:gridCol w="1440000"/>
                <a:gridCol w="1584360"/>
                <a:gridCol w="1120680"/>
                <a:gridCol w="17956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nformation Sour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elev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alid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Wo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useful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ystematic Revi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ig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Evidence-Based Journ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pto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-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-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 Textboo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E lect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Drug representati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Mass med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179280" y="2637000"/>
            <a:ext cx="8893440" cy="33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4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Agenda </a:t>
            </a:r>
            <a:endParaRPr b="0" lang="en-US" sz="6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452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formation need and sour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on maste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nt exper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BM in developing countr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179280" y="536400"/>
          <a:ext cx="8893440" cy="5413320"/>
        </p:xfrm>
        <a:graphic>
          <a:graphicData uri="http://schemas.openxmlformats.org/drawingml/2006/table">
            <a:tbl>
              <a:tblPr/>
              <a:tblGrid>
                <a:gridCol w="2952720"/>
                <a:gridCol w="1440000"/>
                <a:gridCol w="1584360"/>
                <a:gridCol w="1120680"/>
                <a:gridCol w="17956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nformation Sour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elev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alid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Wo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useful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ystematic Revi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ig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Evidence-Based Journ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pto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-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-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 Textboo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E lect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Drug representati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Mass med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2" name=""/>
          <p:cNvSpPr/>
          <p:nvPr/>
        </p:nvSpPr>
        <p:spPr>
          <a:xfrm>
            <a:off x="179280" y="4653000"/>
            <a:ext cx="889344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179280" y="536400"/>
          <a:ext cx="8893440" cy="5413320"/>
        </p:xfrm>
        <a:graphic>
          <a:graphicData uri="http://schemas.openxmlformats.org/drawingml/2006/table">
            <a:tbl>
              <a:tblPr/>
              <a:tblGrid>
                <a:gridCol w="2952720"/>
                <a:gridCol w="1440000"/>
                <a:gridCol w="1584360"/>
                <a:gridCol w="1120680"/>
                <a:gridCol w="17956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nformation Sour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elev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alid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Wo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useful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ystematic Revi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ig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Evidence-Based Journ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pto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-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-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 Textboo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E lect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Drug representati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Mass med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14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Agenda </a:t>
            </a:r>
            <a:endParaRPr b="0" lang="en-US" sz="6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1452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on need and sour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on maste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tent exper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BM in developing countr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1206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Content expert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r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Information master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6" dur="2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2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6" dur="2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ontent expert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e often turn to someone with greater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experience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knowledge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in a particular area when we have a question.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ontent expert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71640" y="169992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tent exper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re experienced in the management of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specific ca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especially wh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1)POEMs are not availabl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2) when we need a quick answer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ontent expert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60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We must be cautious, however, because </a:t>
            </a: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generalizing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 advice , especially based on </a:t>
            </a: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DOEs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Content experts may be unable or unwilling to look beyond </a:t>
            </a: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DOEs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Information from a content expert tends to be quite </a:t>
            </a: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subjective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, however; even in narrowly </a:t>
            </a: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focused specialties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ow Well Do We Care for Our Patients?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11280" y="1701720"/>
            <a:ext cx="815184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commendations  of experts are highly correlated with their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aining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ypertension knowledge inversely correlates with graduation year (Sackett DL. Can med assoc Jnl 1984;130:719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ontent expert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806292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Variability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earch has shown that not only is it difficult to get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group of exper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agree on the interpretation of  data,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t is also difficult to get experts to agree with themselves instead of evidenc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variation.jpg (43812 bytes)"/>
          <p:cNvPicPr/>
          <p:nvPr/>
        </p:nvPicPr>
        <p:blipFill>
          <a:blip r:embed="rId1"/>
          <a:stretch/>
        </p:blipFill>
        <p:spPr>
          <a:xfrm>
            <a:off x="762120" y="1371600"/>
            <a:ext cx="7696080" cy="52578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0" y="2286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Variation in curr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We really need information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4720" y="1546200"/>
            <a:ext cx="863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 need i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wic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for every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3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utpatients and </a:t>
            </a: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imes for </a:t>
            </a: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ever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inpati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estions  are most likely to be abou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reat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st  of the questions generated in consultations go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unanswered: tim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19600" spc="-1" strike="noStrike">
                <a:solidFill>
                  <a:srgbClr val="00ffff"/>
                </a:solidFill>
                <a:latin typeface="Times New Roman"/>
              </a:rPr>
              <a:t>BUT!</a:t>
            </a:r>
            <a:endParaRPr b="0" lang="en-US" sz="1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formation master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172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meone  who has a deep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nderstanding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valuation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informatio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y are able to give an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bjectiv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ssessment of the quality of information, unencumbered by the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ia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experience and train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formation masters recommendation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4582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ormation master consider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EM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even when this evidenc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nflicts with DO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accepted  dogma, or their own anecdota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perien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 POEMs are not available, they use the best availabl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Es (standard surrogates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ombined with clinical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erien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formation master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88720" y="1981080"/>
            <a:ext cx="8675640" cy="4114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Language of speaking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o  answer the questions; how many times do you refer to studies instead of pathophysiologic reason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ffff"/>
                </a:solidFill>
                <a:latin typeface="Times New Roman"/>
              </a:rPr>
              <a:t>It’s what we’ve always done!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2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Self evaluation</a:t>
            </a:r>
            <a:endParaRPr b="0" lang="en-US" sz="6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4582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URISTICS AND BIASES AND CAUSALIT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ARCH STRATEGIES (SEN,SP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EAPPRAISED RESOURCES,EBM RESOUR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TANDARD CRITICAL APPRAISAL? THERAPY, DIAGNOSI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NT, ARR, RR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Self evaluation</a:t>
            </a:r>
            <a:endParaRPr b="0" lang="en-US" sz="6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56908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SED ON WHICH STUDIES: COHORT, CASE S,OR … WE MAY RECOMMEND INTERVENTIONS?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level of evidenc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M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ICH SURROGATES ARE  STANDARD FOR YOUR SPECIALTY ?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DL, BP, BMD, HBA1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GROUP ANALYSIS,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" dur="1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0" dur="20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Reference based medicine?</a:t>
            </a:r>
            <a:endParaRPr b="0" lang="en-US" sz="5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irst, idea  second, referenc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mbiguous question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No search strateg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No critical appraisa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mperfect  evalua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vidence Based Medicin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. . 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idence based medicine is rooted in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ive link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dea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irst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clinical decisions should be based on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est available scientific evide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cond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linical proble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rather than habits or protocols - should determine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ype of evide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be sought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ird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identifying the best evidence means using epidemiological and biostatistical ways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ink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ourth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conclusions derived from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dentifying and critically appraising evide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re useful only if put into action in managing patients or making health care decisions; and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inal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performance should be constantl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valu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3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3" dur="20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8" dur="2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3" dur="20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8" dur="20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3" dur="20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14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Agenda </a:t>
            </a:r>
            <a:endParaRPr b="0" lang="en-US" sz="6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452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on need and sour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eresting examp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on maste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nt exper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BM in developing countr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We really need information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4720" y="1546200"/>
            <a:ext cx="863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  <a:ea typeface="Times New Roman"/>
              </a:rPr>
              <a:t>Approximately </a:t>
            </a:r>
            <a:r>
              <a:rPr b="0" lang="en-US" sz="4000" spc="-1" strike="noStrike">
                <a:solidFill>
                  <a:srgbClr val="ffff00"/>
                </a:solidFill>
                <a:latin typeface="Georgia"/>
                <a:ea typeface="Times New Roman"/>
              </a:rPr>
              <a:t>one third</a:t>
            </a:r>
            <a:r>
              <a:rPr b="0" lang="en-US" sz="4000" spc="-1" strike="noStrike">
                <a:solidFill>
                  <a:srgbClr val="ffffff"/>
                </a:solidFill>
                <a:latin typeface="Georgia"/>
                <a:ea typeface="Times New Roman"/>
              </a:rPr>
              <a:t> of the answers would have had a direct impact on patient ca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octors are most likely to seek answers to their questions from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ther doctors, textbooks,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ome Problems in Developing Countri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nformation is 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disorganized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,  and  not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earchabl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s it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valid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Research for what?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8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Some Problems in Developing Countries</a:t>
            </a:r>
            <a:endParaRPr b="0" lang="en-US" sz="4000" spc="-1" strike="noStrike" u="sng">
              <a:solidFill>
                <a:srgbClr val="ff9966"/>
              </a:solidFill>
              <a:uFillTx/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nancial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resourc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re limite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number of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ystematic review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nd  practice guidelines are limited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isseminating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the findings of systematic reviews to policymakers, health professionals, and consumers i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efect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2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5" dur="2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0" dur="2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ome Problems in Developing Countri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42720" y="1341360"/>
            <a:ext cx="84582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nicians  and public health professionals are trained in programmes that incorporate traditional models of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stern medical education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stern bias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pplying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eviden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8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Some Problems in Developing Countries</a:t>
            </a:r>
            <a:endParaRPr b="0" lang="en-US" sz="4000" spc="-1" strike="noStrike" u="sng">
              <a:solidFill>
                <a:srgbClr val="ff9966"/>
              </a:solidFill>
              <a:uFillTx/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nicians in many developing countries believe that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cientific understanding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is essential to designing rational treatment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BM is a threat to this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reedom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7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2" dur="20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8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Some Problems in Developing Countries</a:t>
            </a:r>
            <a:endParaRPr b="0" lang="en-US" sz="3200" spc="-1" strike="noStrike" u="sng">
              <a:solidFill>
                <a:srgbClr val="ff9966"/>
              </a:solidFill>
              <a:uFillTx/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1280" y="1197000"/>
            <a:ext cx="8893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8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Ultimately it is the </a:t>
            </a: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medical profession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 that is the main constraint on </a:t>
            </a: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change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8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One reason is that in many developing countries, </a:t>
            </a: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ownership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 of equipment or hospital facilities by doctors is </a:t>
            </a: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allowed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, or even encouraged, by medical societies and training institutions.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8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This creates conflicts of interest, which may explain the overuse of many diagnostic tests.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8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936720" y="-114480"/>
            <a:ext cx="694836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Evidence based jo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908000" y="1219320"/>
            <a:ext cx="46483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8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080" y="1181160"/>
            <a:ext cx="2942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lass0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Things I belie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080" y="1773360"/>
            <a:ext cx="617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lass0a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Things I believe despite the available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320" y="2316240"/>
            <a:ext cx="9032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lass1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Randomised controlled clinical trials that agree with what I belie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600" y="3002040"/>
            <a:ext cx="5119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lass2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Other prospectively collected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440" y="3535200"/>
            <a:ext cx="284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lass3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Expert opin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4068720"/>
            <a:ext cx="8915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Randomised controlled clinical trials that do not  agree with what I belie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440" y="4941720"/>
            <a:ext cx="4668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lass5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What you believe that I do n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403280" y="115920"/>
            <a:ext cx="655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Evidence based jo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8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14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ffff00"/>
                </a:solidFill>
                <a:uFillTx/>
                <a:latin typeface="Times New Roman"/>
              </a:rPr>
              <a:t>Summary </a:t>
            </a:r>
            <a:endParaRPr b="0" lang="en-US" sz="6600" spc="-1" strike="noStrike" u="sng">
              <a:solidFill>
                <a:srgbClr val="ff9966"/>
              </a:solidFill>
              <a:uFillTx/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452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on need and sour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on maste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nt expert Vs information mas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BM in developing countr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8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ffff00"/>
                </a:solidFill>
                <a:uFillTx/>
                <a:latin typeface="Times New Roman"/>
              </a:rPr>
              <a:t>Conclusion</a:t>
            </a:r>
            <a:br>
              <a:rPr sz="7200"/>
            </a:br>
            <a:br>
              <a:rPr sz="5400"/>
            </a:br>
            <a:endParaRPr b="0" lang="en-US" sz="7200" spc="-1" strike="noStrike" u="sng">
              <a:solidFill>
                <a:srgbClr val="ff9966"/>
              </a:solidFill>
              <a:uFillTx/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Future physicians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are capable of </a:t>
            </a: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finding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evaluating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, and </a:t>
            </a: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applying</a:t>
            </a: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new information as it becomes available.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8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9600" spc="-1" strike="noStrike">
                <a:solidFill>
                  <a:srgbClr val="ffff00"/>
                </a:solidFill>
                <a:latin typeface="Times New Roman"/>
              </a:rPr>
              <a:t>Thank you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  <a:ea typeface="Arial"/>
              </a:rPr>
              <a:t>Information source 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Human source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 use experiences and references to decide)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rint source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2060640"/>
            <a:ext cx="6170760" cy="914400"/>
          </a:xfrm>
          <a:prstGeom prst="ellipse">
            <a:avLst/>
          </a:prstGeom>
          <a:noFill/>
          <a:ln w="82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3640" y="2193840"/>
            <a:ext cx="439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ample size (n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lection bi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Information  bi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ss to follow-u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9760" y="1977840"/>
            <a:ext cx="4170240" cy="20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marL="157680" indent="-157680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mple size (N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57680" indent="-1576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andomiz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576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57680" indent="-157680">
              <a:spcBef>
                <a:spcPts val="85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ffff"/>
                </a:solidFill>
                <a:latin typeface="Times New Roman"/>
              </a:rPr>
              <a:t>Blinding (placebo,.)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1576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157680" indent="-1576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T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576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730080"/>
            <a:ext cx="85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  <a:ea typeface="Arial"/>
              </a:rPr>
              <a:t>clinics’ trials                   RC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33080" y="-69840"/>
            <a:ext cx="652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at about experienc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4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Agenda </a:t>
            </a:r>
            <a:endParaRPr b="0" lang="en-US" sz="6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452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on need and sour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formation maste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nt exper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BM in developing countr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ff"/>
                </a:solidFill>
                <a:latin typeface="Times New Roman"/>
              </a:rPr>
              <a:t>Information Mastery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(Slowson and Shaughness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05:45:22Z</dcterms:created>
  <dc:creator>Dr.AKBAR SOLTANI</dc:creator>
  <dc:description/>
  <dc:language>en-US</dc:language>
  <cp:lastModifiedBy>HR</cp:lastModifiedBy>
  <dcterms:modified xsi:type="dcterms:W3CDTF">2007-04-20T06:05:15Z</dcterms:modified>
  <cp:revision>324</cp:revision>
  <dc:subject/>
  <dc:title>Information Mastery</dc:title>
</cp:coreProperties>
</file>