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8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D6DC-DDCE-43C5-AD8A-DBA2923AE2F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4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 quote: Smith R: Where is the wisdom...? The poverty of medical evidence. BMJ 1991;303:798-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om quo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ice of Technology Assessment of the Congress of the United States: Assessing the Efficacy and Safety of Medical Technologies. Washington, D.C.: US Government Printing Office, 197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ice of Technology Assessment of the Congress of the United States: The Impact of Randomized Clinical; Trials on Health Policy and Medical Practice. Washington, D.C.: US Government Printing Office, 198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iamson JW, Goldschmidt PG, Jillson IA: Medical Practice Information Demonstration Project: Final Report. Office of the Assistant Secretary of Health, Department of Health Education and Welfare Contract #282-77-0068GS. Baltimore, Maryland. Policy Research Inc 197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binsky M, Ferguson JH: Analysis of the National Institutes of Health Medicare Coverage Assessment. Internat J Technology Assessment in Health Care 1990;6:480-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ldImg"/>
          </p:nvPr>
        </p:nvSpPr>
        <p:spPr>
          <a:xfrm>
            <a:off x="1292400" y="795240"/>
            <a:ext cx="4273200" cy="3205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263B-77C7-4956-9F52-FD05E0776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10E2-0733-4271-85B6-2968FAE7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6A14-61AC-4FCF-8434-24951BCF9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B585-1903-4522-A5FB-3528EC0DA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9B6F-CF0E-4138-A363-040544BD3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EEE1-A8C1-4ED8-9483-9157C1DA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BC0F-46DD-4EB0-912C-7980102D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D70B-7555-471C-A6B6-098B7E4D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194A-329C-4834-8700-D95BC2B1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22C4-962D-4F0F-B1CB-42815165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5678-DB97-4D9E-B25B-3FF667DC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125B-FF05-4301-B48D-DBF2BDD7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95A6-C772-45B7-A18A-EA79BAD0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A222-7370-4CA7-9A21-7D9391DE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3E11-2924-4D5D-9FAD-29CE5A46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8ED6-0E78-4BD2-A46F-6DC80960F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8861-C1FD-4030-9991-7E5E0D618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B87D-7A22-42F4-8AB2-8908C968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FBED-1899-4D15-BE29-AB5F87DC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01FF-002C-423D-94C2-42C22212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8F8D-56E7-4721-ACD5-6F54B664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5AA8-CF77-4312-90BE-377638BC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7AFD-6F90-4C75-9A15-2DE29BED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0F50-9EEB-42CE-86C6-7FDD5644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3495-E2C9-49FA-A2FF-D90DE5B0A620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46B5-5EC4-480F-B6D7-CA0EF3A6A38D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oltaniebm.com/" TargetMode="External"/><Relationship Id="rId2" Type="http://schemas.openxmlformats.org/officeDocument/2006/relationships/hyperlink" Target="http://www.ebm.ir/" TargetMode="External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5029200" cy="6019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 Black"/>
              </a:rPr>
              <a:t>What is grade of recommendation’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482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The extent to which one can be confident that a suggested </a:t>
            </a:r>
            <a:r>
              <a:rPr b="0" lang="en-GB" sz="4000" spc="-1" strike="noStrike">
                <a:solidFill>
                  <a:srgbClr val="ffcc00"/>
                </a:solidFill>
                <a:latin typeface="Arial"/>
              </a:rPr>
              <a:t>action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will do more </a:t>
            </a:r>
            <a:r>
              <a:rPr b="0" lang="en-GB" sz="4000" spc="-1" strike="noStrike">
                <a:solidFill>
                  <a:srgbClr val="ffcc00"/>
                </a:solidFill>
                <a:latin typeface="Arial"/>
              </a:rPr>
              <a:t>good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than harm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grade is matched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directl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 the level of evidence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1001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Grading syste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ce157"/>
                </a:solidFill>
                <a:latin typeface="Arial"/>
              </a:rPr>
              <a:t>High-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ermediate-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Low-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sufficient-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ce157"/>
                </a:solidFill>
                <a:latin typeface="Arial"/>
              </a:rPr>
              <a:t>Well done R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si-R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Well done observat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ything el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Giant cell arteritis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steroids ,immediately ,at doses of at least 20 mg ,daily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steroids (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immediately (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at doses of at least 20 mg (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daily (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84320" y="456840"/>
            <a:ext cx="8059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What Proportion of Healthcare is Evidence-Based ?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8305560" cy="299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BMJ Editorial: about 15%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Archie Cochrane: less than 10%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NIH : Diagnostic technology 21 %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59580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(Cochrane 1976; White 197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EVIDENCE ?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1170000"/>
            <a:ext cx="815364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MRI Vs CT for pituitary tum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Screening BMD and fra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Treatment of osteope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Fluoride and osteopor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HRT and life expecta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and 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Sub-clinical hypothyroidism and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77560"/>
            <a:ext cx="77724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ponents of the Approach to Grades of Recommendation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412640"/>
            <a:ext cx="80629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amp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fini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tr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sistency of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isk/benefit trade o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rectness (relevanc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c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ant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lass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 grad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9900"/>
                </a:solidFill>
                <a:latin typeface="Arial"/>
              </a:rPr>
              <a:t>Strength?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Strength</a:t>
            </a: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 of Evidence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domized trials, are 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trong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vidences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rength of evidence from an otherwise systematic overview of randomized trials will, however, depend on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nsistenc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the results from study to stud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9960"/>
            <a:ext cx="777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Strength</a:t>
            </a: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 of Evidence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esign-title?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etailed design (blinding, allocation concealment, ITT)-titl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77560"/>
            <a:ext cx="77724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ponents of the Approach to Grades of Recommendation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412640"/>
            <a:ext cx="80629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amp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fini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r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onsistency of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isk/benefit trade o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rectness (relevanc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c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ant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lass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 grad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Levels of Evidence and Strength of Recommendation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1332000" y="5084640"/>
            <a:ext cx="6400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kbar </a:t>
            </a: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</a:t>
            </a:r>
            <a:r>
              <a:rPr b="1" lang="en-GB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ltani. MD</a:t>
            </a: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, MS, Endocrinologi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ehran University of Medical Sciences (TUM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docrine and Metabolism Research Center (EMRC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vidence-Based Medicine Research Center (EBMRC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hariati Hospita</a:t>
            </a: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98d43"/>
                </a:solidFill>
                <a:uFillTx/>
                <a:latin typeface="Arial Unicode MS"/>
                <a:ea typeface="Arial Unicode MS"/>
                <a:hlinkClick r:id="rId1"/>
              </a:rPr>
              <a:t>www.soltaniebm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98d43"/>
                </a:solidFill>
                <a:uFillTx/>
                <a:latin typeface="Arial Unicode MS"/>
                <a:ea typeface="Arial Unicode MS"/>
                <a:hlinkClick r:id="rId2"/>
              </a:rPr>
              <a:t>www.ebm.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9900"/>
                </a:solidFill>
                <a:latin typeface="Arial"/>
              </a:rPr>
              <a:t>CONSISTENCY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9900"/>
                </a:solidFill>
                <a:latin typeface="Arial"/>
              </a:rPr>
              <a:t>Heterogeneity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sistency of Results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5690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 a simple rule of thumb, results can be considered "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consisten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 if 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al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their CIs overlap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this does not occur, there can be 2 cases: The results can be either "inconsistent" or "widely variable.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inconsisten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5690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ults are inconsistent if 1 or more studies show the treatment to be more effective than the alternative, while 1 or more studies show the 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opposit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such cases the treatment must be considered </a:t>
            </a:r>
            <a:r>
              <a:rPr b="0" lang="en-US" sz="3600" spc="-1" strike="noStrike" u="sng">
                <a:solidFill>
                  <a:srgbClr val="ff9900"/>
                </a:solidFill>
                <a:uFillTx/>
                <a:latin typeface="Arial"/>
              </a:rPr>
              <a:t>investigationa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until the causes for the inconsistency are understood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vary widel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s can vary widely if the results of at least 2 studies are so far apart that their CIs do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not overla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he occurrence of widely varying results indicates that there are othe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known facto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affect the outcomes of the treatmen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estimates from the individual studies are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impreci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however, an apparent large difference may be due to the play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ha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00"/>
                </a:solidFill>
                <a:latin typeface="Arial Black"/>
              </a:rPr>
              <a:t>consistency of results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consistency bears on the strength of treatment recommendations, it must be both clinically important and statistically significant (p &lt;0.05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568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"/>
                <a:ea typeface="Arial"/>
              </a:rPr>
              <a:t>Consistency-practical point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19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) the difference in the estimate of relative risk reduction between the two most disparate studies is greater than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20%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Exampl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 a relative risk reduction of 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40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% in one study and less than 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20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% in anot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3568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"/>
                <a:ea typeface="Arial"/>
              </a:rPr>
              <a:t>Consistency-practical point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19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) the difference between the boundaries of the confidence intervals between the two most disparate studies is greater than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5%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Examp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the lower boundary in first study is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3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% and the upper boundary of the confidence interval in the second study is less than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2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%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93200"/>
            <a:ext cx="77724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Grades of Recommendations for a Specified Level of Baseline Risk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1RCTs, no heterogeneity, CIs all on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one sid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f threshold N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2RCTs, no heterogeneity, CIs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overla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hreshold N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1RCTs, heterogeneity, CIs all on one side of threshold N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2RCTs, heterogeneity, CIs overlap threshold N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1Observational studies, CIs all on one side of threshold N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2Observational studies, CIs overlap threshold N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sistency of Resul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ssential idea is to ask whether the most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essimisti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stimate of a benefit is still sufficient to choose the treatment, and a worst case assumption about a risk would not be cause to reject the treatme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77560"/>
            <a:ext cx="77724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ponents of the Approach to Grades of Recommendation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412640"/>
            <a:ext cx="80629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amp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fini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r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sistency of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Risk/benefit trade o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rectness (relevanc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c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ant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lass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 grad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77560"/>
            <a:ext cx="77724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ponents of the Approach to Grades of Recommendation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412640"/>
            <a:ext cx="80629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Examp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fini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r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sistency of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isk/benefit trade o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rectness (relevanc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c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ant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lass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 grad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ff9900"/>
                </a:solidFill>
                <a:latin typeface="Arial"/>
              </a:rPr>
              <a:t>RISK BENEFIT TRADE OFF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Risk/Benefit Trade off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 decision about initiating a preventive or therapeutic regimen represents a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rade-of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tween patient or public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enefi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on the one hand,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oxic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cost, and administrative burden to patients and providers, on the oth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0" y="-2700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2700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0" y="4869000"/>
            <a:ext cx="8893080" cy="1728720"/>
          </a:xfrm>
          <a:prstGeom prst="rect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80360" y="2997360"/>
            <a:ext cx="914400" cy="91440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7292880" y="3645000"/>
            <a:ext cx="914400" cy="8776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4"/>
                </a:solidFill>
                <a:latin typeface="Times New Roman"/>
              </a:rPr>
              <a:t>34-12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15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cc00"/>
                </a:solidFill>
                <a:latin typeface="Times New Roman"/>
              </a:rPr>
              <a:t>Risk/Benefit Trade off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2438280"/>
            <a:ext cx="541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320" y="1576440"/>
            <a:ext cx="9067680" cy="55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than 10% of FDA approved have serious side effects.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</a:t>
            </a:r>
            <a:r>
              <a:rPr b="1" i="1" lang="en-US" sz="3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ule of three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ability of event not occurring = 1-risk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ability of event not occurring in  </a:t>
            </a:r>
            <a:r>
              <a:rPr b="1" i="1" lang="en-US" sz="2700" spc="-1" strike="noStrike">
                <a:solidFill>
                  <a:srgbClr val="1fffff"/>
                </a:solidFill>
                <a:latin typeface="Times New Roman"/>
                <a:ea typeface="Times New Roman"/>
              </a:rPr>
              <a:t>n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atient = (1-risk )^ n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- maxrisk ) ^ n = 0.05                   1- maxrisk =(0.05)^(1/n)           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n&gt;30                  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-maxrisk = 1-3/n     maxrisk = 3/n  ; n &gt; 3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5% confident of adverse event  = 0/n – 3/n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32000" y="5877000"/>
            <a:ext cx="1224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Risk/benefit  tradeoff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SA after 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Meta-analysis of high quality R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Clear positive treatment ef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Unequivocal recommendations to  treat uniform pract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TPA Vs ST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Very large single R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Clear positive ef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Uncertainty whether  to treat, varying pract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ICH, cost/ judgment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77560"/>
            <a:ext cx="77724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ponents of the Approach to Grades of Recommendation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412640"/>
            <a:ext cx="80629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amp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fini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r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sistency of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isk/benefit trade o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Directness (relevanc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c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ant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lass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 grad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9900"/>
                </a:solidFill>
                <a:latin typeface="Arial"/>
              </a:rPr>
              <a:t>DIRECTNES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Direct Evidence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idence is said to be "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direc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 if both the use of the treatment and the occurrence of the outcomes are observed in the same stud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Example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RCT of a cholesterol-lowering drug in which both the use of the drug and the health outcomes are observed in the same popula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 Black"/>
              </a:rPr>
              <a:t>US Preventive Servic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spcBef>
                <a:spcPts val="799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trength of recommend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799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ood evidence for consi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799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air evidence for consi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799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sufficient evidence to recomm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799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air evidence for exclu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799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ood evidence for exclu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Relevance of evidenc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The usefulness of the evidence in clinical practice, particularly the appropriateness of the outcome measures use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Types of Outcom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Surrogate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Clinica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Patient relevan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52280" y="612720"/>
          <a:ext cx="8991720" cy="5788080"/>
        </p:xfrm>
        <a:graphic>
          <a:graphicData uri="http://schemas.openxmlformats.org/drawingml/2006/table">
            <a:tbl>
              <a:tblPr/>
              <a:tblGrid>
                <a:gridCol w="2013120"/>
                <a:gridCol w="2403360"/>
                <a:gridCol w="2249640"/>
                <a:gridCol w="23256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Surrog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Clinic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atient-relev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33"/>
                          </a:solidFill>
                          <a:latin typeface="Garamond"/>
                        </a:rPr>
                        <a:t>Cardiovascul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lood pressu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troke, myocard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farction, surviv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linical outcomes, Q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33"/>
                          </a:solidFill>
                          <a:latin typeface="Garamond"/>
                        </a:rPr>
                        <a:t>HIV/AI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D4 T lymphocy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u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IDs events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urviv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urvival, QoL, adverse effec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33"/>
                          </a:solidFill>
                          <a:latin typeface="Garamond"/>
                        </a:rPr>
                        <a:t>Fractu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one miner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ens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one fractu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mptomatic fracture, functional stat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33"/>
                          </a:solidFill>
                          <a:latin typeface="Garamond"/>
                        </a:rPr>
                        <a:t>Coronary hear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33"/>
                          </a:solidFill>
                          <a:latin typeface="Garamond"/>
                        </a:rPr>
                        <a:t>dise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lood cholester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eve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yocard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farction, surviv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yocardial infarction survival, symptoms (angina), QoL, pa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33"/>
                          </a:solidFill>
                          <a:latin typeface="Garamond"/>
                        </a:rPr>
                        <a:t>Otitis med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icrobiologic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‘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ure’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linical cu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eafness, side effects (eg GI symptom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"/>
          <p:cNvSpPr/>
          <p:nvPr/>
        </p:nvSpPr>
        <p:spPr>
          <a:xfrm>
            <a:off x="150840" y="106668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Dise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49880" y="60948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Outc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360" y="1557360"/>
            <a:ext cx="9144000" cy="180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4365720"/>
            <a:ext cx="9144000" cy="201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Surrogate outcom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laboratory measurement or a physical sign used as a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  <a:ea typeface="Arial"/>
              </a:rPr>
              <a:t>substitu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for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linically meaningful endpoi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that measures directly how a patient feels, functions or surviv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hang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induced by a therapy on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urrog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endpoint should be expected to reflect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  <a:ea typeface="Arial"/>
              </a:rPr>
              <a:t>changes in a clinically meaningful endpoi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Clinical outcom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utcomes that tend to be defined on the basis of the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disea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eing studi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Examp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rvival in canc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ccurrence of vertebral fractures in treatments for osteopor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lcer hea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lking distance or microbiological ‘cure’ in the treatment of infe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Patient relevant outcom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utcomes that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matt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the patient and their careers. They need to be outcomes that patients can experience and that they care about (eg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quality of life, return to normal func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tient relevant outcomes may also b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linical outcom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r surrogate outcomes that are good predictors (in a causal sense) of outcomes that matter to the patient and their care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1371600"/>
            <a:ext cx="91440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Examples of Hypothetical DOE and POEM studie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"/>
          <p:cNvSpPr/>
          <p:nvPr/>
        </p:nvSpPr>
        <p:spPr>
          <a:xfrm>
            <a:off x="744480" y="1905120"/>
            <a:ext cx="75186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7280" y="2363760"/>
            <a:ext cx="2684520" cy="6426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Drug A lowers cholester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00400" y="2287440"/>
            <a:ext cx="2895480" cy="6426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Drug A lowers cardiovascular morta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248520" y="2286000"/>
            <a:ext cx="2743200" cy="6426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Drug A decreases overall morta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7280" y="3354480"/>
            <a:ext cx="2629080" cy="6426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RT low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holester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10520" y="3162240"/>
            <a:ext cx="1855800" cy="119124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HRT incre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cardiovascul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orta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4880" y="3284640"/>
            <a:ext cx="2094840" cy="91692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RT do no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ecreases over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ortality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4724280"/>
            <a:ext cx="2666880" cy="91692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luoride increase  osteoblastic activit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4952880"/>
            <a:ext cx="2819520" cy="36828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Fluoride increase BM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180120" y="4938840"/>
            <a:ext cx="2811600" cy="6426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luoride increase Fx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9440" y="1700280"/>
            <a:ext cx="9231120" cy="459720"/>
            <a:chOff x="19440" y="1700280"/>
            <a:chExt cx="9231120" cy="459720"/>
          </a:xfrm>
        </p:grpSpPr>
        <p:sp>
          <p:nvSpPr>
            <p:cNvPr id="262" name=""/>
            <p:cNvSpPr/>
            <p:nvPr/>
          </p:nvSpPr>
          <p:spPr>
            <a:xfrm>
              <a:off x="19440" y="170028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DO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172360" y="170028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POE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55720" y="1928880"/>
              <a:ext cx="7391520" cy="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2708640" y="6013440"/>
            <a:ext cx="44982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athophysiologic reasoning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02840" y="4568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Classifying the relevance of the eviden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20174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idence of an effect on patient-relevant clinical outcomes, including benefits and harms, and quality of life and surviv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idence of an effect on a surrogate outcome that has been shown to be predictive of patient-relevant outcomes for the same interven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idence of an effect on proven surrogate outcomes but for a different interven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idence of an effect on proven surrogate outcomes but for a different intervention and popul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idence confined to unproven surrogate outco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4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4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4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9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4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4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77560"/>
            <a:ext cx="77724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ponents of the Approach to Grades of Recommendation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440" y="1412640"/>
            <a:ext cx="80629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amp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fini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r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sistency of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isk/benefit trade o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rectness (relevanc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prec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ant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lass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 grad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9900"/>
                </a:solidFill>
                <a:latin typeface="Arial"/>
              </a:rPr>
              <a:t>PRECISION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steoporosis US Task Forc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re is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nsufficien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evidence to recommend for or agains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outin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creening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for osteoporosis with bone densitometry in postmenopausal women. Recommendations against routine screening may be made on other grounds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ecis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ample siz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ffect the CIs of the results-larger numbers of patients imply tighter CIs and more confidence that the "true" effect is close to the observed resul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ever, there is no absolute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reshol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criterion for how tight a CI must b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ecis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or examp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if there is a disease that in the control group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uniformly fat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in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reatment group of, for example, 6 patients showing 2 survivors (for a survival rate of 33%) would b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linically meaningfu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ven though the range of uncertainty around that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3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% is huge (the 95% CI is from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% to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7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%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ecis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onverse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if a new treatment is trying to increase survival of a disease from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% with the old treatment, to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%, then the CI would have to be within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1%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demonstrate the differenc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ould require a total sample size of about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14 00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eople (to achieve a power of 0.8 at P=.05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ecis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her, the required tightness of the CI, and therefore the sample size, depends o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ow big the effect must be to be clinically meaningful in comparison with the alternative treatm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mportance of the outco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an also affect the required size of a study; we can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tolerate more uncertain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bout a treatment's effect if the outcome is relief from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tch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n if it is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ortal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te of bypass surger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77560"/>
            <a:ext cx="77724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ponents of the Approach to Grades of Recommendation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12640"/>
            <a:ext cx="80629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amp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fini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r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sistency of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isk/benefit trade o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rectness (relevanc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c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Quant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lass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 grad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9900"/>
                </a:solidFill>
                <a:latin typeface="Arial"/>
              </a:rPr>
              <a:t>Quantity of evidenc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Quantity of Evidence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68000" y="1980720"/>
            <a:ext cx="84582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ule of thumb is that there should be eith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) at least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2 independ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tudies (eg, not from the same institution or from investigators who have a professional relationship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2) at least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1 multicent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tudy that reports data separately from each cen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ne RCT &gt; </a:t>
            </a:r>
            <a:r>
              <a:rPr b="0" lang="en-GB" sz="2000" spc="-1" strike="noStrike">
                <a:solidFill>
                  <a:srgbClr val="ff9900"/>
                </a:solidFill>
                <a:latin typeface="Arial"/>
              </a:rPr>
              <a:t>300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u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277560"/>
            <a:ext cx="77724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ponents of the Approach to Grades of Recommendation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440" y="1412640"/>
            <a:ext cx="80629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amp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fini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r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sistency of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isk/benefit trade o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rectness (relevanc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c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ant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lass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 grad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ass effec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Next sessions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77560"/>
            <a:ext cx="77724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ponents of the Approach to Grades of Recommendation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440" y="1412640"/>
            <a:ext cx="80629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amp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fini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r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sistency of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isk/benefit trade o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rectness (relevanc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c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ant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lass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Why grad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77560"/>
            <a:ext cx="77724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ponents of the Approach to Grades of Recommendation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412640"/>
            <a:ext cx="80629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amp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Definition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r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sistency of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isk/benefit trade o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rectness (relevanc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c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ant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lass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 grad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y grade recommenda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 recommen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One size fits 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Expect uniform clinical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ker recommend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Expect action to v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n ideal grading syste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ear and separate considerations of two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)-methodological quality of evidence (likelihood of bi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2)-trade-off between benefits and risk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d co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trong or weak recommendation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iousness of 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gnitude of ef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cision of treatment ef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of target ev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of adverse 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 of therap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es and pre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Highest level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-quality RCTs (randomised with concealment, double-blinded, complete follow-up, intention-to-treat analysis) gives us the least biased estimate of the effect of an intervens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Hierarchy of study types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stematic reviews and meta­analyses of randomised controlled t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domised controlled t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­randomised intervention 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servational 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­experimental 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t opinion (CME, Lectures, Roun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 Black"/>
              </a:rPr>
              <a:t>What is ‘level of evidence’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6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The extent to which one can be confident that an </a:t>
            </a:r>
            <a:r>
              <a:rPr b="0" lang="en-GB" sz="4800" spc="-1" strike="noStrike">
                <a:solidFill>
                  <a:srgbClr val="ffcc00"/>
                </a:solidFill>
                <a:latin typeface="Arial"/>
              </a:rPr>
              <a:t>estimate</a:t>
            </a: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GB" sz="4800" spc="-1" strike="noStrike">
                <a:solidFill>
                  <a:srgbClr val="ff9900"/>
                </a:solidFill>
                <a:latin typeface="Arial"/>
              </a:rPr>
              <a:t>effect</a:t>
            </a: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 or association is </a:t>
            </a:r>
            <a:r>
              <a:rPr b="0" lang="en-GB" sz="4800" spc="-1" strike="noStrike">
                <a:solidFill>
                  <a:srgbClr val="ffcc00"/>
                </a:solidFill>
                <a:latin typeface="Arial"/>
              </a:rPr>
              <a:t>correct (unbiased)</a:t>
            </a: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01:20:00Z</dcterms:created>
  <dc:creator> Dr.A.SOLTANI</dc:creator>
  <dc:description/>
  <dc:language>en-US</dc:language>
  <cp:lastModifiedBy>HR</cp:lastModifiedBy>
  <dcterms:modified xsi:type="dcterms:W3CDTF">2007-04-20T06:01:49Z</dcterms:modified>
  <cp:revision>153</cp:revision>
  <dc:subject/>
  <dc:title>GRADE OF RECCOMENDATION (1)</dc:title>
</cp:coreProperties>
</file>