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632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684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580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632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684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360" y="71280"/>
            <a:ext cx="83934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phony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-34308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5744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d073ce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Symphony"/>
              </a:rPr>
              <a:t>An Introduction to </a:t>
            </a:r>
            <a:br>
              <a:rPr sz="4400"/>
            </a:br>
            <a:r>
              <a:rPr b="0" lang="en-US" sz="4400" spc="-1" strike="noStrike" u="sng">
                <a:solidFill>
                  <a:srgbClr val="ff9900"/>
                </a:solidFill>
                <a:uFillTx/>
                <a:latin typeface="Symphony"/>
              </a:rPr>
              <a:t>Systematic Vs Narrative  Reviews and Textbooks 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495288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Systematic reviews are needed whenever there is: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800" y="1899720"/>
            <a:ext cx="8312400" cy="30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 substantive therapeutic ques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everal primary studies (perhaps with disparate finding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ubstantial uncertain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228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ahoma"/>
              </a:rPr>
              <a:t>a.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2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 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ize that authors of reviews and textbooks and speakers at educational conferences often begin with their predetermined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clusion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then find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ferenc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to support only this point of vie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urthermore, cited references often d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 actually support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he conclusion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flaw is not uncommon: one study of review articles found that 24% of the referenced articles were not correctly summarised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isdom gained through experience helps clinician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agnos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disease and perform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cedur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perience i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adequate to remain proficient i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eatment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oficiency also require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nowledg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of the medical literature and the ability to think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riticall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with an open min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ystematic analyses?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Drawbacks</a:t>
            </a:r>
            <a:endParaRPr b="0" lang="en-US" sz="4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y should always emphasiz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EM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first when forming a recommendation, even when this information conflicts with disease oriented evidence or their own clinical experienc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en the author presents information seems to be a POEM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, the original article must be retrieved for evaluation to confirm the author's contention“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Bottom-line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cepting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nclus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summary reviews may be risky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e usually do not have the ability to assess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alidit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the supporting dat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vel of evidence?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27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ppropriate for describing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st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velopment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a problem and its managemen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y may be particularly useful for  discussing data in light  of underly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contex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road rang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, textbook chapter or a narrative review on diabetes  might include sections o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hys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athophys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carbohydrate,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epidemiolog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f and prognosis associated with diabetes; diagnostic and screening approaches,…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Background inform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943600" y="2895480"/>
            <a:ext cx="2590920" cy="381240"/>
          </a:xfrm>
          <a:prstGeom prst="roundRect">
            <a:avLst>
              <a:gd name="adj" fmla="val 16667"/>
            </a:avLst>
          </a:prstGeom>
          <a:solidFill>
            <a:srgbClr val="d4a4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1760" y="30492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l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5040" y="17524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(analytic)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3699000"/>
            <a:ext cx="228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rando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led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440" y="3733920"/>
            <a:ext cx="296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erv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e-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oss se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ve,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e re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99160" y="175248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(integrative)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2860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048120"/>
            <a:ext cx="3124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0481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911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19112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914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1295280"/>
            <a:ext cx="4648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1295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295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02640" y="24796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-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on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torial,com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actice guid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cin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omic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2209680"/>
            <a:ext cx="4038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us textbooks may be most useful for obtaining 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broad perspectiv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on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 topic; they are less often useful i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urnishing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ahoma"/>
              </a:rPr>
              <a:t>quantitative answer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o specific clinical question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Benefi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e especially good for topics that hav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t chang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much in recent year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: clinical diagnosis of acute abdomen Palpation of the thyroid gland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ut are limited source of information that are changing rapidl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r example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: HIV, PU , Type 2 diabetes renal Diseas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extbooks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Drawback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Benefits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Practical points 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Symphony"/>
              </a:rPr>
              <a:t>Practical points</a:t>
            </a:r>
            <a:endParaRPr b="0" lang="en-US" sz="6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linicians using review articles to keep up to date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do not have to read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the entire articl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t is acceptable to read the article headlines, abstract, or conclusion first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f a statement is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firmly rooted in patient oriented evidence it can b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disregarded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ce you've located a POEM, th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origina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esearch data must be evaluated fo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validit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8031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ature                 Narrative Review                  Systematic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447920"/>
            <a:ext cx="8610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" y="1488960"/>
            <a:ext cx="88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                 often broad in scope              often a focused clin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82880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60" y="25146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and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5080" y="24382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usually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ly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47960" y="2362320"/>
            <a:ext cx="35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hensive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explicit 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880" y="35053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5080" y="33526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usually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ly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4360" y="3276720"/>
            <a:ext cx="32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erion-base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ormly ap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67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2670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1360" y="426708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orous critical 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640" y="5029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7800" y="499428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a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43280" y="499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itative 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720" y="5985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2400" y="601992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evidence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57720" y="60199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evidence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33520"/>
            <a:ext cx="8534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080" y="4465800"/>
            <a:ext cx="908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umber-Level of references-Same auth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3800" y="2770200"/>
            <a:ext cx="32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2680" y="285840"/>
            <a:ext cx="367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EM or DO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51640" y="1587600"/>
            <a:ext cx="39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ke conflic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836640"/>
            <a:ext cx="0" cy="79200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234936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386064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5084640"/>
            <a:ext cx="0" cy="792360"/>
          </a:xfrm>
          <a:prstGeom prst="line">
            <a:avLst/>
          </a:prstGeom>
          <a:ln cap="sq" w="7920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9840" y="588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3400" y="6040440"/>
            <a:ext cx="177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ind 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33"/>
                </a:solidFill>
                <a:latin typeface="Tahoma"/>
              </a:rPr>
              <a:t>But in our text books!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  <a:p>
            <a:pPr marL="457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33"/>
                </a:solidFill>
                <a:latin typeface="Tahoma"/>
              </a:rPr>
              <a:t>    </a:t>
            </a:r>
            <a:r>
              <a:rPr b="0" lang="en-US" sz="6600" spc="-1" strike="noStrike">
                <a:solidFill>
                  <a:srgbClr val="ccff33"/>
                </a:solidFill>
                <a:latin typeface="Tahoma"/>
              </a:rPr>
              <a:t>Thank you</a:t>
            </a:r>
            <a:endParaRPr b="0" lang="en-US" sz="6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Some definitions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6320" y="10663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review is any attempt to 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ynthesize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the results and conclusions of two or more publications on a given topic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Some definitions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6680" y="10663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Systematic review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is a review which aim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comprehensivel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to identify and synthesize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all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literature on a given topic. A systematic review must state clearly how all relevant studies were identified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valuat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 synthesized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eta-analysi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:a systematic review which permits the statistical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pooling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f results across tria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9898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Symphony"/>
              </a:rPr>
              <a:t>Is it a systematic review? does it: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Define  a four part (answerable) clinical question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Combine  Randomized Controlled Trials (RCT’s)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Describe  PRE-DEFINED search metho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E-DEFINED inclusion criteria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E-DEFINED methodological exclusion criteria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Symphony"/>
              </a:rPr>
              <a:t>Evidence-based approach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ystematic and comprehensive search for the eviden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ow good is the evidence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What are the benefits and/or adverse things that are associated with the choices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Symphony"/>
              </a:rPr>
              <a:t>Traditional review articles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spcBef>
                <a:spcPts val="700"/>
              </a:spcBef>
              <a:buClr>
                <a:srgbClr val="66ffff"/>
              </a:buClr>
              <a:buSzPct val="7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Lack a scientific metho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I. Only look at published resear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523880" indent="-6094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publication favours research which demonstrates “statistically significant” differences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523880" indent="-60948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publication bias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Traditional review articles 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5800" y="1263600"/>
            <a:ext cx="8312400" cy="36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II. Are subjective and uncritic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any review must systematically appraise the methodological quality of the primary research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V. Are unreplic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Book Antiqua"/>
              </a:rPr>
              <a:t>no way to assess how the reviewers reached their conclusions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31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lvl="2" marL="1314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2790000" y="4997520"/>
            <a:ext cx="405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Results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Symphony"/>
              </a:rPr>
              <a:t>Result….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Delay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in implementation of research findings (thrombolytic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Implementation of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harmfu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r ineffective treatments (antiarrhythmics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Ineffective use of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resources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albumin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0:57:18Z</dcterms:created>
  <dc:creator>Akbar Soltani, M.D.</dc:creator>
  <dc:description/>
  <cp:keywords/>
  <dc:language>en-US</dc:language>
  <cp:lastModifiedBy>HR</cp:lastModifiedBy>
  <cp:lastPrinted>2000-10-19T15:44:26Z</cp:lastPrinted>
  <dcterms:modified xsi:type="dcterms:W3CDTF">2007-04-20T06:00:58Z</dcterms:modified>
  <cp:revision>541</cp:revision>
  <dc:subject/>
  <dc:title>APPROACH TO NEW DRU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0455965</vt:r8>
  </property>
  <property fmtid="{D5CDD505-2E9C-101B-9397-08002B2CF9AE}" pid="3" name="_AuthorEmail">
    <vt:lpwstr>ryan@mid-hudson.com</vt:lpwstr>
  </property>
  <property fmtid="{D5CDD505-2E9C-101B-9397-08002B2CF9AE}" pid="4" name="_AuthorEmailDisplayName">
    <vt:lpwstr>Ryan Osswald</vt:lpwstr>
  </property>
  <property fmtid="{D5CDD505-2E9C-101B-9397-08002B2CF9AE}" pid="5" name="_EmailSubject">
    <vt:lpwstr>Dr. Rush's Power Point</vt:lpwstr>
  </property>
  <property fmtid="{D5CDD505-2E9C-101B-9397-08002B2CF9AE}" pid="6" name="_ReviewingToolsShownOnce">
    <vt:lpwstr/>
  </property>
</Properties>
</file>