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D945-FBF7-4E04-9586-4C3AC712B4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ABB8-3511-4719-A2F2-5463CD9452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Times New Roman"/>
              </a:rPr>
              <a:t>EBMRC                                                                                                                               Dr SOLTANI                                                                                                                                           RDC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ltaniebm.com/" TargetMode="External"/><Relationship Id="rId2" Type="http://schemas.openxmlformats.org/officeDocument/2006/relationships/hyperlink" Target="http://www.ebm.ir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159984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ffff"/>
                </a:solidFill>
                <a:latin typeface="Tahoma"/>
              </a:rPr>
              <a:t>Evidence Based </a:t>
            </a:r>
            <a:br>
              <a:rPr sz="5400"/>
            </a:br>
            <a:r>
              <a:rPr b="0" i="1" lang="en-US" sz="5400" spc="-1" strike="noStrike">
                <a:solidFill>
                  <a:srgbClr val="00ffff"/>
                </a:solidFill>
                <a:latin typeface="Tahoma"/>
              </a:rPr>
              <a:t>Journal Club: An Overview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49528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Akbar </a:t>
            </a: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S</a:t>
            </a:r>
            <a:r>
              <a:rPr b="1" lang="en-GB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oltani. MD</a:t>
            </a: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, MS, Endocrinologist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Tehran University of Medical Sciences (TUMS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ndocrine and Metabolism Research Center (EMRC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Evidence-Based Medicine Research Center (EBMRC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Shariati Hospita</a:t>
            </a: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1"/>
              </a:rPr>
              <a:t>www.soltaniebm.com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2"/>
              </a:rPr>
              <a:t>www.ebm.ir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19320"/>
            <a:ext cx="861048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Journal club members describe </a:t>
            </a:r>
            <a:r>
              <a:rPr b="0" lang="en-US" sz="3500" spc="-1" strike="noStrike">
                <a:solidFill>
                  <a:srgbClr val="00ffff"/>
                </a:solidFill>
                <a:latin typeface="Arial"/>
                <a:ea typeface="Times New Roman"/>
              </a:rPr>
              <a:t>patients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who exemplify clinical situations which they are </a:t>
            </a:r>
            <a:r>
              <a:rPr b="0" lang="en-US" sz="3500" spc="-1" strike="noStrike">
                <a:solidFill>
                  <a:srgbClr val="00ffff"/>
                </a:solidFill>
                <a:latin typeface="Arial"/>
                <a:ea typeface="Times New Roman"/>
              </a:rPr>
              <a:t>uncertain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 how best to diagnose or manage.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This discussion continues until there is consensus that a particular clinical </a:t>
            </a:r>
            <a:r>
              <a:rPr b="0" lang="en-US" sz="3500" spc="-1" strike="noStrike">
                <a:solidFill>
                  <a:srgbClr val="00ffff"/>
                </a:solidFill>
                <a:latin typeface="Arial"/>
                <a:ea typeface="Times New Roman"/>
              </a:rPr>
              <a:t>problem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Times New Roman"/>
              </a:rPr>
              <a:t>, is worth the time and effort necessary to find its solution.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152280"/>
            <a:ext cx="345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part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77760" y="14940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idence based journal club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1600200"/>
            <a:ext cx="84582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ong patients who are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 I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: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does the use of intensive insulin therapy to  maintain tight blood glucose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C: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tandard therap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lead to improvements in ICU outcome?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duce their risk of dying?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92640" y="212760"/>
            <a:ext cx="20613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ICO</a:t>
            </a:r>
            <a:endParaRPr b="0" lang="en-US" sz="65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523880"/>
            <a:ext cx="8381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results of the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idence searc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n the previous session’s problem are shared in the form of photocopies of the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bstracts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four to six systematic reviews, original articles or other evidence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365040"/>
            <a:ext cx="2209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Times New Roman"/>
              </a:rPr>
              <a:t>part 2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77760" y="38088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idence based journal club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600200"/>
            <a:ext cx="7467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main par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journal club session  is spent in a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ritical appraisal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evidence found in response to a clinical question posed two sessions ago and selected for detailed study last session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13680" y="457200"/>
            <a:ext cx="2158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Times New Roman"/>
              </a:rPr>
              <a:t>part 3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77760" y="45720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idence based journal club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049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Evidence Based Journal Club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t 3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aking Your Present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3209760"/>
          <a:ext cx="7132680" cy="12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09760"/>
                    <a:ext cx="713268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2280" y="6159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Critically Appraised Topic (CAT) is “a one- or two page ‘summary of a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searc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and critical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ppraisal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of the literature related to a focused clinical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questio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which should be kept in an easily accessible place so that it can be used to help make clinical decisions’” 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81240" y="0"/>
            <a:ext cx="5681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4614840" cy="6248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733920" y="380880"/>
            <a:ext cx="457200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080" y="447840"/>
            <a:ext cx="245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line read in secon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83808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19200" y="304920"/>
            <a:ext cx="599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t bottom line quickly (secon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057400"/>
            <a:ext cx="84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ht blood glucose control improves ICU survival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3200400"/>
            <a:ext cx="8381880" cy="2742480"/>
            <a:chOff x="380880" y="3200400"/>
            <a:chExt cx="8381880" cy="2742480"/>
          </a:xfrm>
        </p:grpSpPr>
        <p:sp>
          <p:nvSpPr>
            <p:cNvPr id="98" name=""/>
            <p:cNvSpPr/>
            <p:nvPr/>
          </p:nvSpPr>
          <p:spPr>
            <a:xfrm>
              <a:off x="380880" y="3200400"/>
              <a:ext cx="8381880" cy="27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every 29 patients given intensive insulin therapy, to keep glucose 4.4-6.1 mmol.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ompared to standard therapy, one less patient dies in ICU (95% CI 17 to 101).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ased risk of biochemical, but not symptomatic, hypoglycaemia.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Level 1</a:t>
              </a:r>
              <a:r>
                <a:rPr b="1" lang="en-US" sz="2400" spc="-1" strike="noStrike" u="sng" baseline="30000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+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 evidence 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200400"/>
              <a:ext cx="8381880" cy="2742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19200" y="304920"/>
            <a:ext cx="599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t bottom line quickly (secon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057400"/>
            <a:ext cx="84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ht blood glucose control improves ICU survival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3200400"/>
            <a:ext cx="8381880" cy="2742480"/>
            <a:chOff x="380880" y="3200400"/>
            <a:chExt cx="8381880" cy="2742480"/>
          </a:xfrm>
        </p:grpSpPr>
        <p:sp>
          <p:nvSpPr>
            <p:cNvPr id="103" name=""/>
            <p:cNvSpPr/>
            <p:nvPr/>
          </p:nvSpPr>
          <p:spPr>
            <a:xfrm>
              <a:off x="380880" y="3200400"/>
              <a:ext cx="8381880" cy="27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every 29 patients given intensive insulin therapy, to keep glucose 4.4-6.1 mmol.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ompared to standard therapy, one less patient dies in ICU (95% CI 17 to 101).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ased risk of biochemical, but not symptomatic, hypoglycaemia.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Level 1</a:t>
              </a:r>
              <a:r>
                <a:rPr b="1" lang="en-US" sz="2400" spc="-1" strike="noStrike" u="sng" baseline="30000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+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 evidence 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3200400"/>
              <a:ext cx="8381880" cy="2742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1752480"/>
            <a:ext cx="8763120" cy="1143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6960" y="91440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Declarative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 tit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1294920"/>
            <a:ext cx="609840" cy="30492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19200" y="304920"/>
            <a:ext cx="599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t bottom line quickly (secon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057400"/>
            <a:ext cx="84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ht blood glucose control improves ICU survival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3200400"/>
            <a:ext cx="8381880" cy="2742480"/>
            <a:chOff x="380880" y="3200400"/>
            <a:chExt cx="8381880" cy="2742480"/>
          </a:xfrm>
        </p:grpSpPr>
        <p:sp>
          <p:nvSpPr>
            <p:cNvPr id="111" name=""/>
            <p:cNvSpPr/>
            <p:nvPr/>
          </p:nvSpPr>
          <p:spPr>
            <a:xfrm>
              <a:off x="380880" y="3200400"/>
              <a:ext cx="8381880" cy="2742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every 29 patients given intensive insulin therapy, to keep glucose 4.4-6.1 mmol.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compared to standard therapy, one less patient dies in ICU (95% CI 17 to 101).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ased risk of biochemical, but not symptomatic, hypoglycaemia.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Level 1</a:t>
              </a:r>
              <a:r>
                <a:rPr b="1" lang="en-US" sz="2400" spc="-1" strike="noStrike" u="sng" baseline="30000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+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 evidence 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880" y="3200400"/>
              <a:ext cx="8381880" cy="2742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261440" y="6338880"/>
            <a:ext cx="78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ummary of treatment effect, and level of evid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190760" y="5943600"/>
            <a:ext cx="533160" cy="4572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4614840" cy="6248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733920" y="1371600"/>
            <a:ext cx="449568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080" y="1133640"/>
            <a:ext cx="306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tation details and search strategy, read in hou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190512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ation/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Intensive Insulin Therapy in Critically Ill Patients NEJM 2001; 345: 1359 - 67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part Clinical Ques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ICU patients, does the use of intensive insulin therapy to maintain tight blood glucose control, compared to standard therapy, lead to improvements in ICU outcome?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 Term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 exp sepsis/ or severe sep$.tw or sept$.tw or sepsi$.tw (50301), 2. exp critical care/ or critical ca$.tw or intensive ca$.tw (22553), 3. exp insulin or insuli$.tw (50202), 4. 1 and 2 and 3 (25), 5.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therapy fil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52119), 6. 4 and 5 (1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4320" y="3049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he study (for hour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34320" y="3049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he study (for hour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90512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ation/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Intensive Insulin Therapy in Critically Ill Patients NEJM 2001; 345: 1359 - 67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part Clinical Ques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ICU patients, does the use of intensive insulin therapy to maintain tight blood glucose control, compared to standard therapy, lead to improvements in ICU outcome?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 Term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 exp sepsis/ or severe sep$.tw or sept$.tw or sepsi$.tw (50301), 2. exp critical care/ or critical ca$.tw or intensive ca$.tw (22553), 3. exp insulin or insuli$.tw (50202), 4. 1 and 2 and 3 (25), 5.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therapy fil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52119), 6. 4 and 5 (1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828800"/>
            <a:ext cx="861048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3400" y="914400"/>
            <a:ext cx="46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Hyperlink to journal web si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1371600"/>
            <a:ext cx="91440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190512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ation/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Intensive Insulin Therapy in Critically Ill Patients NEJM 2001; 345: 1359 - 67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part Clinical Ques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ICU patients, does the use of intensive insulin therapy to maintain tight blood glucose control, compared to standard therapy, lead to improvements in ICU outcome?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 Term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 exp sepsis/ or severe sep$.tw or sept$.tw or sepsi$.tw (50301), 2. exp critical care/ or critical ca$.tw or intensive ca$.tw (22553), 3. exp insulin or insuli$.tw (50202), 4. 1 and 2 and 3 (25), 5.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therapy fil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52119), 6. 4 and 5 (1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114800"/>
            <a:ext cx="8610480" cy="160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240" y="6095880"/>
            <a:ext cx="87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earch terms used, for reference, and to repeat in fut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752480" y="5791320"/>
            <a:ext cx="1067040" cy="4572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4320" y="3049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he study (for hour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666880"/>
            <a:ext cx="8610480" cy="1447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461484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33920" y="2362320"/>
            <a:ext cx="4495680" cy="228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743200"/>
            <a:ext cx="291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l details read in minu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342900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3880"/>
            <a:ext cx="84582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ngle-blinded randomised controlled trial with intention-to-trea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Patient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patients admitted to a surgical ICU in Belgium (62% had cardiac surgery). Median APACHE 9 (IQ range 7-13). Median TISS 43. 13% had diabetes. Randomised at ICU admission. All patients given iv glucose on admission, next day: parenteral / enteral nutrition or enteral nutrition alone. Matched for blood glucose at admission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 = 783; 783 analysed): Insulin infusion (1 U.ml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tarted if glucose &gt; 12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itrated to range 10.0 - 11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lood glucose checked 1 - 4 hourly, algorithm used and discussion with study clinician not involved in patient car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 = 765; 765 analysed): Insulin infusion (1 unit/ml) started if glucose &gt; 6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itrated to keep glucose in range 4.4 - 6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lood glucose checked 1 - 4 hourly, algorithm used and discussion with study clinician not involved in patient car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523880"/>
            <a:ext cx="84582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ngle-blinded randomised controlled trial with intention-to-trea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Patient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patients admitted to a surgical ICU in Belgium (62% had cardiac surgery). Median APACHE 9 (IQ range 7-13). Median TISS 43. 13% had diabetes. Randomised at ICU admission. All patients given iv glucose on admission, next day: parenteral / enteral nutrition or enteral nutrition alone. Matched for blood glucose at admission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 = 783; 783 analysed): Insulin infusion (1 U.ml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tarted if glucose &gt; 12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itrated to range 10.0 - 11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lood glucose checked 1 - 4 hourly, algorithm used and discussion with study clinician not involved in patient car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 = 765; 765 analysed): Insulin infusion (1 unit/ml) started if glucose &gt; 6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itrated to keep glucose in range 4.4 - 6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lood glucose checked 1 - 4 hourly, algorithm used and discussion with study clinician not involved in patient car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4120" y="76212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Key design validity featur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886200" y="1143000"/>
            <a:ext cx="457200" cy="304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523880"/>
            <a:ext cx="82296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Probl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need information to make decisions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often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times for every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-patien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2 times for every 3 out-patient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get less than a third of i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keep up to date it is estimated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 need to read 17 articles a day, 365 days a year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523880"/>
            <a:ext cx="84582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ngle-blinded randomised controlled trial with intention-to-trea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Patient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patients admitted to a surgical ICU in Belgium (62% had cardiac surgery). Median APACHE 9 (IQ range 7-13). Median TISS 43. 13% had diabetes. Randomised at ICU admission. All patients given iv glucose on admission, next day: parenteral / enteral nutrition or enteral nutrition alone. Matched for blood glucose at admission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 = 783; 783 analysed): Insulin infusion (1 U.ml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tarted if glucose &gt; 12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itrated to range 10.0 - 11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lood glucose checked 1 - 4 hourly, algorithm used and discussion with study clinician not involved in patient car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 = 765; 765 analysed): Insulin infusion (1 unit/ml) started if glucose &gt; 6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itrated to keep glucose in range 4.4 - 6.1 mmol.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lood glucose checked 1 - 4 hourly, algorithm used and discussion with study clinician not involved in patient car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505320"/>
            <a:ext cx="8610480" cy="2514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6095880"/>
            <a:ext cx="25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ntervention (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876560" y="6019920"/>
            <a:ext cx="99036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981080"/>
            <a:ext cx="8610480" cy="1524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8600" y="2133720"/>
            <a:ext cx="152388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3886200"/>
            <a:ext cx="198108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64120" y="5934240"/>
            <a:ext cx="36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Outcome (s) of interes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2971800"/>
            <a:ext cx="1676160" cy="297180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676160" y="5181480"/>
            <a:ext cx="1523880" cy="9144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31120" y="76212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ontrol group event r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1523880"/>
            <a:ext cx="990720" cy="1752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514600" y="1219320"/>
            <a:ext cx="1371600" cy="30456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31120" y="76212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ontrol group event r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1523880"/>
            <a:ext cx="990720" cy="1752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514600" y="1219320"/>
            <a:ext cx="1371600" cy="30456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1523880"/>
            <a:ext cx="91440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92280" y="762120"/>
            <a:ext cx="48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Experimental group event r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410080" y="1219320"/>
            <a:ext cx="1676520" cy="30456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14560" y="676440"/>
            <a:ext cx="36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lative risk redu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1447920"/>
            <a:ext cx="99072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1143000"/>
            <a:ext cx="1904760" cy="304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14560" y="676440"/>
            <a:ext cx="36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lative risk redu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1447920"/>
            <a:ext cx="99072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33920" y="1143000"/>
            <a:ext cx="1904760" cy="304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9080" y="762120"/>
            <a:ext cx="37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bsolute risk redu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523880"/>
            <a:ext cx="106668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1219320"/>
            <a:ext cx="533160" cy="5331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14560" y="676440"/>
            <a:ext cx="36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lative risk redu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1447920"/>
            <a:ext cx="99072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1143000"/>
            <a:ext cx="1904760" cy="304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9080" y="762120"/>
            <a:ext cx="37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bsolute risk redu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06668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219320"/>
            <a:ext cx="533160" cy="5331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3040" y="5934240"/>
            <a:ext cx="602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Negative risk reduction = an increase !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3809880"/>
            <a:ext cx="213336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791320" y="4648320"/>
            <a:ext cx="457200" cy="137160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7772400" y="1523880"/>
            <a:ext cx="91440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7680" y="75240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Number needed to treat to benefi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866920" y="1066320"/>
            <a:ext cx="2133720" cy="38124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96960" y="2286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rial details (minut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80880" y="1600200"/>
          <a:ext cx="8305920" cy="387036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990720"/>
                <a:gridCol w="914400"/>
                <a:gridCol w="990360"/>
                <a:gridCol w="1219320"/>
                <a:gridCol w="91440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to outco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ta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to 0.05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to 1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glycaem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iochemical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U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78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/76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1%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 Confidence Interval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6 to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2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 to -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7772400" y="1523880"/>
            <a:ext cx="91440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7680" y="75240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Number needed to treat to benefi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866920" y="1066320"/>
            <a:ext cx="2133720" cy="38124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5240" y="571500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Number needed to treat to har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2400" y="3962520"/>
            <a:ext cx="9144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867280" y="5562720"/>
            <a:ext cx="198144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ample scenar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In ICU patients,  do you suggest tight blood glucose control?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Wrong format!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4614840" cy="62481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33920" y="4572000"/>
            <a:ext cx="4419360" cy="19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495680"/>
            <a:ext cx="352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ularised for your own practice, integrate with your experti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60199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06840" y="838080"/>
            <a:ext cx="77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member to particularise for your pati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523880"/>
            <a:ext cx="8229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ominantly cardiac surgery patients (59% had CABG) could this group be more like the DIAGMI group of patients?  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main effect was reduction in deaths due to multiple organ failure due a proven septic focus.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etails provided of algorithm in article – aimed f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oglycaemi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r>
              <a:rPr b="0" lang="en-US" sz="22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Now available via NEJM webs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i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s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ritical illness neuropathy, but are EMG recordings are a surrogate end-point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lin is an inexpensive drug, especially compared to activated protein C, and may be more widely applicable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ingle episodes of hypoglycaemia reported with no physical complications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a higher MR, death (and death due to sepsis) is more common per 100 patients, we need to treat fewer patients to save a life = NNT /  f = 29 / 3 = 10.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is is a rough estimate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ritically Appraised Topic (CA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one page summar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clarative tit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ttom l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me of pap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arch ter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t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i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rven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come Measur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a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mentary and Conclus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linical question.  How it was formed.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5 mi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you found what you found.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2 mi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you found.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3 min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VALIDITY &amp; APPLICABILITY of what you found.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7 min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what you found will ALTER your MANAGEMENT of the patient.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8 mi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76320"/>
            <a:ext cx="899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Making Your Presentation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-457200" y="1600200"/>
            <a:ext cx="960120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93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 able to develop a well-built </a:t>
            </a:r>
            <a:r>
              <a:rPr b="0" lang="en-US" sz="3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PICO)</a:t>
            </a:r>
            <a:r>
              <a:rPr b="0" lang="en-US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question from a clinical scenario 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93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derstand </a:t>
            </a:r>
            <a:r>
              <a:rPr b="0" lang="en-US" sz="3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key search terms</a:t>
            </a:r>
            <a:r>
              <a:rPr b="0" lang="en-US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nd use them to identify relevant literature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93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ritically appraise</a:t>
            </a:r>
            <a:r>
              <a:rPr b="0" lang="en-US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n article in the style outlined by Sackett et al. 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93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pply</a:t>
            </a:r>
            <a:r>
              <a:rPr b="0" lang="en-US" sz="3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he results of the EBM process to the care of a patient (clinical reasoning)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30120"/>
            <a:ext cx="733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Goals for Journal Club 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-533520" y="1593720"/>
            <a:ext cx="96775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sent journal club in an educational fashion, giving equal emphasis to both th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clinical content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d th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EBM proc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Highlight one aspect of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study design or statistics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during the journal club, making it relevant and useful to those in attendance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tribute a well-done Critically-Appraised Topic 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to the files 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254160"/>
            <a:ext cx="733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Goals for Journal Club 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Limitations 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878040"/>
            <a:ext cx="8820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􀁺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rst is the limited applicability of individual CA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reated i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usy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t is a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ingle piec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f evidence summariz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Incomplete, non-representativ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f the entire body of eviden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􀁺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dividual CATs can be wro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irst appear as drafts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without peer review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y contai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inferior evidence, or error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f fact, calculation, or interpretation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􀁺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have a short “half life”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obsolet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s new evidence becomes availabl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raditional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thophysiologic approa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ency bias (in a paper that i read last night or a case that i had ,…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rity bias (complications,…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sonal habit bi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rritory bi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my experience (selection bias , information bias,…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24000" y="404640"/>
          <a:ext cx="849600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4640"/>
                    <a:ext cx="849600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476280"/>
          <a:ext cx="9144000" cy="56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ottom Lin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. The new challenge in medicine i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formation mastery. (Vs content exper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. In order to survive in the information age every clinician needs tools, based on the information mastery equation: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fulness = (Relevance x Validity)/ Wor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CATs have evolved to be highly useful 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9280" y="404640"/>
          <a:ext cx="874872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874872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ff"/>
                </a:solidFill>
                <a:latin typeface="Arial"/>
                <a:ea typeface="Arial"/>
              </a:rPr>
              <a:t>   </a:t>
            </a:r>
            <a:r>
              <a:rPr b="0" lang="en-US" sz="9600" spc="-1" strike="noStrike">
                <a:solidFill>
                  <a:srgbClr val="00ffff"/>
                </a:solidFill>
                <a:latin typeface="Arial"/>
                <a:ea typeface="Arial"/>
              </a:rPr>
              <a:t>Thank you 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ntroduction: (problems, traditional approach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Traditional  Vs Evidence Based Journal club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What is CAT?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Goals for journal club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Limitations of CAT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ummary 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952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Journal clubs are 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  <a:ea typeface="Arial"/>
              </a:rPr>
              <a:t>dying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or dead in many clinical centers, especially when they rely on a rotating schedule by which members are asked to summarize the 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  <a:ea typeface="Arial"/>
              </a:rPr>
              <a:t>latest issues of pre-assigned journal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0600" y="76320"/>
            <a:ext cx="612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raditional  journal club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1480" y="5473800"/>
            <a:ext cx="432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Usefulness?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4680" y="4832280"/>
            <a:ext cx="248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Postman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formation Sources for Use at the Point of C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fulness =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levance x Valid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99520" y="3013200"/>
            <a:ext cx="109512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E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200040" y="3200040"/>
            <a:ext cx="167652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67960" y="5222880"/>
            <a:ext cx="84060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B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4419720"/>
            <a:ext cx="1066680" cy="761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106668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Translate these needs into answerabl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ques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rack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ow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he best evidence to answer th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pprais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hat evidence for its validity (closeness to the truth) and applicability (usefulness in our clinical practice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Integrate that evidence with our clinical expertise an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pp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t in practice (MD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aluat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ur performa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3280" y="179280"/>
            <a:ext cx="697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idence Based Medicine 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1:14:22Z</dcterms:created>
  <dc:creator>Dr.SOLTANI</dc:creator>
  <dc:description/>
  <dc:language>en-US</dc:language>
  <cp:lastModifiedBy>HR</cp:lastModifiedBy>
  <cp:lastPrinted>1999-10-21T15:38:03Z</cp:lastPrinted>
  <dcterms:modified xsi:type="dcterms:W3CDTF">2007-04-20T06:00:22Z</dcterms:modified>
  <cp:revision>372</cp:revision>
  <dc:subject/>
  <dc:title>CAT</dc:title>
</cp:coreProperties>
</file>